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4C30-1CFA-4EBC-AF5B-D0BBFF049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02C3-FF68-4B76-A790-E31472C4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6EC6-02FF-4BBA-8903-998CAC144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28E0-9BC8-4053-8ED3-5B643EEAC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E3A88-5021-4DCE-9D4A-F686B286F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F03E2-1AB5-429F-896F-AADE9290C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65214-C75B-4386-9B3B-76BB88643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67532-E7AD-42B2-AA15-00CFE2D6F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6B223-2653-4E5D-91F2-860597AE0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79847-666F-4A92-BC8F-5C936F653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C1A7B-18B5-4ED9-966D-D25788B9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04A1-E61B-4701-9101-FC1297AC2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7C67E-5DF2-4C85-9B71-34B5EC2C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0335E-C6D8-4EF6-B9C8-2391BB2C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3D243-39DE-4115-B74D-D104A91F0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434C4-9AF1-4E73-882B-DC4990126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0E1E7-3729-4ADA-88D8-FF42F7130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196BE-6A95-40C9-90E8-352F43380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CED9B-531C-4830-A8A4-22CC21E34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A578D-D6B9-41AA-99F7-A6F6C594E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28999-9341-419B-8109-D3CE06AF9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5FEBA-9DD5-4089-A62F-F09CDA904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A478-BB47-44C8-8B55-97A108141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7B234-BB42-46E5-8A24-B1817E5B9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93C28-3DC0-40AB-9D75-3F1021F2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1A2AB-DECF-44D9-A02A-0206D287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A66B5-B0EA-4E39-8953-75897081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B3CC2-51DE-4648-BE3E-BD18F7BD1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18F0F-4168-4E50-9648-291AE8254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0D389-AD4C-414A-AF61-662988BAA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2BAFB-5724-42D4-99A6-97941ED5F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FFB82-B0E2-4DDA-9763-E750053DD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59DE6-4932-4F2E-B193-60383B6B9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50DD-830A-4DBA-8FA5-F22CD46E5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84268-7960-4B58-92BF-55BA7059E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F9849-2A29-4176-9082-75418EA29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3E8C8-78C5-4269-8D34-1536C86B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6A7E9-E6A8-4287-8094-A49B6FFD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37711-F4AC-461C-8DB8-A8DEA0B4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23AA9-EC67-49BA-BC1C-68117C92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54D06-1CA7-4ECB-B478-DCFB74A33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D2DC9-D762-49C2-818D-FB811BBDF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A279D-0488-49F0-BC96-883B56DD8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29C64-E301-4412-9793-6EA6E653F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EFED-56CB-4C6B-A6BE-CB9756854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15328-D79E-454F-AF06-251862AC1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E2A99-3305-4D92-B364-56AAA4D69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DEF28-4B88-461E-A2C9-85FAAF738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65420-6441-4F0F-827B-D1644E7F5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136A8-4D97-4AF7-B0E9-593358B6E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839D7-2D04-4FC8-9F34-DCF5B24E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19005-35F1-4055-AC16-A7D5FF8F2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6C44F-79DE-47E4-B942-E6A2F00F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67424-257B-4E58-BE21-B15EE8709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54CFC-45AA-483D-B25D-3F26EB80F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EAAC-F816-40AE-802F-593B40A0F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B95A0-363E-49E1-9F8D-F8A2C554C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7936D-FA79-44FF-A32C-7B8C5F295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D6E59-C83A-4E9E-8451-7DBEC6F4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09998-C98A-4520-885E-86B4DA0A0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75B89-64BA-440E-A361-3D169451A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72723-9764-4373-AC5C-EC57BD111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D337AA-ED4C-4CF7-8460-39DB6A0CC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8B378-D9CD-4D9A-9790-63CC288D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5A333-19B9-4CA5-AB59-9972D360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BEC65-272E-4524-985C-E51685D4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FFC6-1A42-4C33-81D2-4A92FEE4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0CBAC-6ABE-4DCB-8F19-93B332201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A1D88-652B-4270-B846-69A3BF7C8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469F8-FABD-4A5B-AD3A-EE8A4BC44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46D203-1D0C-4679-9050-9E9E4481A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14FCF-6192-40AE-BC71-40AD78E2B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5697C0-E397-48B5-A5C3-5D4DB358E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5EFE5-3C66-46C0-B467-ECA98E16E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5B0EB-2419-47D7-B7E5-3D28C880A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457663-53E3-47F5-B800-3E5522543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516D15-D1B3-4CCA-82F7-626728B4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8447-4E06-4A04-8F29-22F58D64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FA3B0-15BD-4322-A4ED-38E4A2A7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AA9AE3-E045-47B9-8866-95B195B0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52B9D-060D-446D-8FAD-7CF5F17DD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B6BB2B-D250-4394-BA86-7122CE052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2B45B-B1B0-4CA8-913F-8218FC120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1670-C181-421A-ABD9-5A769699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C63BD-D4DB-4A26-AC24-7C239EE776B3}" type="slidenum"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직사각형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직사각형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Corbel"/>
                <a:ea typeface="HY엽서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Corbel"/>
                <a:ea typeface="HY엽서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Corbel"/>
                <a:ea typeface="HY엽서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59677-F0D8-46B5-AA6D-0797C27F09D1}" type="slidenum">
              <a:rPr b="0" lang="ko-KR" sz="1200" spc="-1" strike="noStrike">
                <a:solidFill>
                  <a:srgbClr val="ffffff"/>
                </a:solidFill>
                <a:latin typeface="Corbel"/>
                <a:ea typeface="HY엽서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직사각형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Corbel"/>
                <a:ea typeface="HY엽서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Corbel"/>
                <a:ea typeface="HY엽서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Corbel"/>
                <a:ea typeface="HY엽서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0ED4C-93F1-40AE-9BDC-BA11A318948C}" type="slidenum">
              <a:rPr b="0" lang="ko-KR" sz="1200" spc="-1" strike="noStrike">
                <a:solidFill>
                  <a:srgbClr val="ffffff"/>
                </a:solidFill>
                <a:latin typeface="Corbel"/>
                <a:ea typeface="HY엽서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89A31-2EF7-44B0-A2E8-E14A27ADBFEF}" type="slidenum"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직사각형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C50C8-864F-45F3-B893-5D284C6CFC68}" type="slidenum"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직사각형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직사각형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직사각형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직사각형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692C3-8E99-48E1-BC45-8218876E6369}" type="slidenum"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직사각형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직사각형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3AD74-6064-43D3-94D4-1B0F45572C7C}" type="slidenum"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제목 3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bel"/>
              </a:rPr>
              <a:t>2-1. Sample Types &amp; Considering Factors for Collection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rbel"/>
              </a:rPr>
              <a:t>Sample Types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According to the physical conditions ; solid, liquid, or gas samples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According to the representativeness; bulk, partial, or mixed samples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According to the conventional names; Rock, soil, stream water, groundwater, coal, plant, food etc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rbel"/>
              </a:rPr>
              <a:t>Considering Factors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The essential requisite for the sample is the </a:t>
            </a:r>
            <a:r>
              <a:rPr b="1" lang="en-US" sz="1700" spc="-1" strike="noStrike">
                <a:solidFill>
                  <a:srgbClr val="ff0000"/>
                </a:solidFill>
                <a:latin typeface="Corbel"/>
              </a:rPr>
              <a:t>representativeness</a:t>
            </a: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 of the object of sampling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Then, consider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Purpose of sampling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Budget  for  the analysis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Characteristics (Types) of the samples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3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5" descr="VAN_VEEN"/>
          <p:cNvPicPr/>
          <p:nvPr/>
        </p:nvPicPr>
        <p:blipFill>
          <a:blip r:embed="rId1"/>
          <a:stretch/>
        </p:blipFill>
        <p:spPr>
          <a:xfrm>
            <a:off x="179280" y="0"/>
            <a:ext cx="4284720" cy="41371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7" descr="tools_vanveen_en_162213"/>
          <p:cNvPicPr/>
          <p:nvPr/>
        </p:nvPicPr>
        <p:blipFill>
          <a:blip r:embed="rId2"/>
          <a:stretch/>
        </p:blipFill>
        <p:spPr>
          <a:xfrm>
            <a:off x="179280" y="3860640"/>
            <a:ext cx="3048120" cy="28004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9" descr="alpinevirbracore2"/>
          <p:cNvPicPr/>
          <p:nvPr/>
        </p:nvPicPr>
        <p:blipFill>
          <a:blip r:embed="rId3"/>
          <a:stretch/>
        </p:blipFill>
        <p:spPr>
          <a:xfrm>
            <a:off x="3419640" y="2852640"/>
            <a:ext cx="2743200" cy="35053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1" descr="K-B"/>
          <p:cNvPicPr/>
          <p:nvPr/>
        </p:nvPicPr>
        <p:blipFill>
          <a:blip r:embed="rId4"/>
          <a:stretch/>
        </p:blipFill>
        <p:spPr>
          <a:xfrm>
            <a:off x="6227640" y="836640"/>
            <a:ext cx="25527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4-3. Sampling Design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Mostly depends on the distribution of the sediment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3-4. Treatment of Soil Sample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Very similar to the soil sample treatmen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ize fractionatio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제목 3"/>
          <p:cNvSpPr/>
          <p:nvPr/>
        </p:nvSpPr>
        <p:spPr>
          <a:xfrm>
            <a:off x="457200" y="15552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c800"/>
                </a:solidFill>
                <a:latin typeface="Corbel"/>
                <a:ea typeface="HY엽서L"/>
              </a:rPr>
              <a:t>Ch. 3. SAMPLE COLLECTION &amp; TREATMENTS</a:t>
            </a:r>
            <a:endParaRPr b="0" lang="en-US" sz="4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bel"/>
              </a:rPr>
              <a:t>3-5. Rock Sample Collection &amp; Preparation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4-1. General Considering Factor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Rock type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Weatherin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Grain size: generally sample size should be 60 times larger than the grain size ex) &lt;1/16cm </a:t>
            </a:r>
            <a:r>
              <a:rPr b="0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 3*4*1 cm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tructure &amp; texture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Other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4-2. Collection Method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Hamm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Core sampl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Chiesle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제목 3"/>
          <p:cNvSpPr/>
          <p:nvPr/>
        </p:nvSpPr>
        <p:spPr>
          <a:xfrm>
            <a:off x="457200" y="15552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c800"/>
                </a:solidFill>
                <a:latin typeface="Corbel"/>
                <a:ea typeface="HY엽서L"/>
              </a:rPr>
              <a:t>Ch. 3. SAMPLE COLLECTION &amp; TREATMENTS</a:t>
            </a:r>
            <a:endParaRPr b="0" lang="en-US" sz="4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제목 3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bel"/>
              </a:rPr>
              <a:t>2-2. Collection &amp; Pretreatment of Water Samples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rbel"/>
              </a:rPr>
              <a:t>Water samples?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Surface water (Streams, lakes, springs, etc.)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Groundwater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Meteoric water (rain, snow, fog, etc)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Others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rbel"/>
              </a:rPr>
              <a:t>Considering factors of water sampling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Variable properties responding to a number of surrounding conditions such as T, P, time, biota, geology, etc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Should consider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Water type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Parameters measured in the field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Required pretreatment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Geological &amp; Hydrological conditions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Temporal &amp; spatial variation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Others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3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제목 3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774440"/>
            <a:ext cx="2890800" cy="1582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lvl="1" marL="730080" indent="-272880">
              <a:lnSpc>
                <a:spcPct val="8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orbel"/>
              </a:rPr>
              <a:t>Methods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76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rbel"/>
              </a:rPr>
              <a:t>Scooping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76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rbel"/>
              </a:rPr>
              <a:t>Grab sampling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76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rbel"/>
              </a:rPr>
              <a:t>Bailor / Bomb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76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rbel"/>
              </a:rPr>
              <a:t>Pumping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9" name="Picture 2" descr="http://www.korearth.net/lecture/geochem/gchem_anal/ch03/w_scoop.jpg"/>
          <p:cNvPicPr/>
          <p:nvPr/>
        </p:nvPicPr>
        <p:blipFill>
          <a:blip r:embed="rId2"/>
          <a:stretch/>
        </p:blipFill>
        <p:spPr>
          <a:xfrm>
            <a:off x="3419640" y="1773360"/>
            <a:ext cx="1285560" cy="12859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http://www.korearth.net/lecture/geochem/gchem_anal/ch03/bailer1.gif"/>
          <p:cNvPicPr/>
          <p:nvPr/>
        </p:nvPicPr>
        <p:blipFill>
          <a:blip r:embed="rId3"/>
          <a:stretch/>
        </p:blipFill>
        <p:spPr>
          <a:xfrm>
            <a:off x="3059280" y="2997360"/>
            <a:ext cx="1820520" cy="36986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8" descr="http://www.korearth.net/lecture/geochem/gchem_anal/ch03/w_bomb.gif"/>
          <p:cNvPicPr/>
          <p:nvPr/>
        </p:nvPicPr>
        <p:blipFill>
          <a:blip r:embed="rId4"/>
          <a:stretch/>
        </p:blipFill>
        <p:spPr>
          <a:xfrm>
            <a:off x="826920" y="3573360"/>
            <a:ext cx="2219400" cy="27432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0" descr="http://www.korearth.net/lecture/geochem/gchem_anal/ch03/s_pump2.jpg"/>
          <p:cNvPicPr/>
          <p:nvPr/>
        </p:nvPicPr>
        <p:blipFill>
          <a:blip r:embed="rId5"/>
          <a:stretch/>
        </p:blipFill>
        <p:spPr>
          <a:xfrm>
            <a:off x="6084720" y="3716280"/>
            <a:ext cx="2876760" cy="29145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4" descr="http://www.korearth.net/lecture/geochem/gchem_anal/ch03/w_grab.jpg"/>
          <p:cNvPicPr/>
          <p:nvPr/>
        </p:nvPicPr>
        <p:blipFill>
          <a:blip r:embed="rId6"/>
          <a:stretch/>
        </p:blipFill>
        <p:spPr>
          <a:xfrm>
            <a:off x="4859280" y="1844640"/>
            <a:ext cx="237672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제목 3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774800"/>
            <a:ext cx="8229600" cy="20145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lvl="1" marL="730080" indent="-272880">
              <a:lnSpc>
                <a:spcPct val="8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rbel"/>
              </a:rPr>
              <a:t>Pretreatments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99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Filtration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; Removal of SS &amp; (microbes),  with 0.1, 0.2 or 0.45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m pore membrane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99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Acidification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; Prohibiting pptn of the DS, with HNO3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99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Sterilization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; Killing all the microbes, with HgCl2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99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Refrigeration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; Supress microbial activity at 4C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6" name="Picture 2" descr="http://www.korearth.net/lecture/geochem/gchem_anal/ch03/filter_app.jpg"/>
          <p:cNvPicPr/>
          <p:nvPr/>
        </p:nvPicPr>
        <p:blipFill>
          <a:blip r:embed="rId2"/>
          <a:stretch/>
        </p:blipFill>
        <p:spPr>
          <a:xfrm>
            <a:off x="1476360" y="3716280"/>
            <a:ext cx="3017880" cy="30178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4" descr="http://www.korearth.net/lecture/geochem/gchem_anal/ch03/hand_vac.jpg"/>
          <p:cNvPicPr/>
          <p:nvPr/>
        </p:nvPicPr>
        <p:blipFill>
          <a:blip r:embed="rId3"/>
          <a:stretch/>
        </p:blipFill>
        <p:spPr>
          <a:xfrm>
            <a:off x="4500720" y="3860640"/>
            <a:ext cx="39146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bel"/>
              </a:rPr>
              <a:t>3-3. Soil Sample Collection &amp; Preparation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3-1. General Considering Factor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oil type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oil profile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Parents &amp; local geology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Plantatio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Land use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Other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3-2. Collection Method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hovel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oil core sampl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Aug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oil moisture sampl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Customized personalized device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9" name="제목 3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4" descr="hand1_l-soil-sampling-auger-water-level"/>
          <p:cNvPicPr/>
          <p:nvPr/>
        </p:nvPicPr>
        <p:blipFill>
          <a:blip r:embed="rId1"/>
          <a:stretch/>
        </p:blipFill>
        <p:spPr>
          <a:xfrm>
            <a:off x="250920" y="260280"/>
            <a:ext cx="4286160" cy="43243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6" descr="10_b"/>
          <p:cNvPicPr/>
          <p:nvPr/>
        </p:nvPicPr>
        <p:blipFill>
          <a:blip r:embed="rId2"/>
          <a:stretch/>
        </p:blipFill>
        <p:spPr>
          <a:xfrm>
            <a:off x="395280" y="4000680"/>
            <a:ext cx="1905120" cy="28573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8" descr="23_Soil-Sampling_3col"/>
          <p:cNvPicPr/>
          <p:nvPr/>
        </p:nvPicPr>
        <p:blipFill>
          <a:blip r:embed="rId3"/>
          <a:stretch/>
        </p:blipFill>
        <p:spPr>
          <a:xfrm>
            <a:off x="4714920" y="404640"/>
            <a:ext cx="4429080" cy="28101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0" descr="VL_sampler"/>
          <p:cNvPicPr/>
          <p:nvPr/>
        </p:nvPicPr>
        <p:blipFill>
          <a:blip r:embed="rId4"/>
          <a:stretch/>
        </p:blipFill>
        <p:spPr>
          <a:xfrm>
            <a:off x="3851280" y="3408480"/>
            <a:ext cx="508788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3-3. Sampling Design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Barbell clust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Nested Cell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tratified vs. unstratified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3-4. Treatment of Soil Sample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Dryin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ievin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Removal of organic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Grindin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제목 3"/>
          <p:cNvSpPr/>
          <p:nvPr/>
        </p:nvSpPr>
        <p:spPr>
          <a:xfrm>
            <a:off x="457200" y="15552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c800"/>
                </a:solidFill>
                <a:latin typeface="Corbel"/>
                <a:ea typeface="HY엽서L"/>
              </a:rPr>
              <a:t>Ch. 3. SAMPLE COLLECTION &amp; TREATMENTS</a:t>
            </a:r>
            <a:endParaRPr b="0" lang="en-US" sz="4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4" descr="image008"/>
          <p:cNvPicPr/>
          <p:nvPr/>
        </p:nvPicPr>
        <p:blipFill>
          <a:blip r:embed="rId1"/>
          <a:stretch/>
        </p:blipFill>
        <p:spPr>
          <a:xfrm>
            <a:off x="684360" y="1989000"/>
            <a:ext cx="3744720" cy="30448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6" descr="mt89illust1"/>
          <p:cNvPicPr/>
          <p:nvPr/>
        </p:nvPicPr>
        <p:blipFill>
          <a:blip r:embed="rId2"/>
          <a:stretch/>
        </p:blipFill>
        <p:spPr>
          <a:xfrm>
            <a:off x="5364000" y="2060640"/>
            <a:ext cx="2305080" cy="2305080"/>
          </a:xfrm>
          <a:prstGeom prst="rect">
            <a:avLst/>
          </a:prstGeom>
          <a:ln w="0">
            <a:noFill/>
          </a:ln>
        </p:spPr>
      </p:pic>
      <p:sp>
        <p:nvSpPr>
          <p:cNvPr id="328" name="제목 3"/>
          <p:cNvSpPr/>
          <p:nvPr/>
        </p:nvSpPr>
        <p:spPr>
          <a:xfrm>
            <a:off x="457200" y="15552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c800"/>
                </a:solidFill>
                <a:latin typeface="Corbel"/>
                <a:ea typeface="HY엽서L"/>
              </a:rPr>
              <a:t>Ch. 3. SAMPLE COLLECTION &amp; TREATMENTS</a:t>
            </a:r>
            <a:endParaRPr b="0" lang="en-US" sz="4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bel"/>
              </a:rPr>
              <a:t>3-4. Sediment Sample Collection &amp; Preparation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4-1. General Considering Factor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patial (horizontal) variatio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Vertical (depth) variatio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ize distributio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Temporal variatio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edimentation mechanism (sedimentation media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Disturbance by samplin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Parental rock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4-2. Collection Method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Grab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Core sampl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Customized personalized device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제목 3"/>
          <p:cNvSpPr/>
          <p:nvPr/>
        </p:nvSpPr>
        <p:spPr>
          <a:xfrm>
            <a:off x="457200" y="15552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c800"/>
                </a:solidFill>
                <a:latin typeface="Corbel"/>
                <a:ea typeface="HY엽서L"/>
              </a:rPr>
              <a:t>Ch. 3. SAMPLE COLLECTION &amp; TREATMENTS</a:t>
            </a:r>
            <a:endParaRPr b="0" lang="en-US" sz="4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4T11:44:53Z</dcterms:created>
  <dc:creator>user</dc:creator>
  <dc:description/>
  <dc:language>en-US</dc:language>
  <cp:lastModifiedBy>user</cp:lastModifiedBy>
  <dcterms:modified xsi:type="dcterms:W3CDTF">2011-11-14T23:57:18Z</dcterms:modified>
  <cp:revision>27</cp:revision>
  <dc:subject/>
  <dc:title>Ch. 2. BASICS of GEOCHEMICAL ANALYSIS</dc:title>
</cp:coreProperties>
</file>